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016520" y="-36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160" y="70596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89406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4016520" y="89406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D0AAE17-DBC4-451B-91D3-6ECD63E28E79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29A940-50B7-41BE-9179-DD103C96532C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3192128-0EDA-4F54-9E17-EA0FAE4DA570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B638-F4E9-4246-8919-E58D396ED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28E5-2B41-46AA-8234-2802E63E6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C906-992F-426D-B67F-5CE11807B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FC25-8F3D-4BAD-BE71-362FE89E38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0472-D276-48D7-8617-F8905BAF48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63DE-88FD-4813-9BF5-A2AD2A7C1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AF4D-276D-48A7-81FC-7AFB2424C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D10D-30F2-4B50-B323-25DB72E71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7F11-6404-4D28-90B6-5B3096C47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D209-EB71-4A4C-806A-A46EA3F41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18BB-55C8-4D4D-9158-7603CEEE6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1104-09D7-43EB-B0B5-857084DDA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2108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8F66-DD61-43E4-913C-F5E289B3A03B}" type="slidenum">
              <a:rPr b="0" lang="en-US" sz="9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Line 8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entury Schoolbook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foplease.com/ipa/A0876793.html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6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BAFB-4BBC-4DFE-B376-B0B7EDBDF55B}" type="slidenum">
              <a:rPr b="0" lang="en-US" sz="9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716360" y="1596960"/>
            <a:ext cx="3997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595"/>
                </a:solidFill>
                <a:latin typeface="Century Schoolbook"/>
              </a:rPr>
              <a:t>The Roots of American Democrac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732200" y="2532240"/>
            <a:ext cx="3784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entury Schoolbook"/>
              </a:rPr>
              <a:t>What ideas gave birth to the world’s first modern democratic nation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718160" y="1179360"/>
            <a:ext cx="138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Chapter</a:t>
            </a: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" name="Picture 8" descr="GOV_SE_CH3_Page_02.jpg"/>
          <p:cNvPicPr/>
          <p:nvPr/>
        </p:nvPicPr>
        <p:blipFill>
          <a:blip r:embed="rId1"/>
          <a:srcRect l="0" t="0" r="3387" b="0"/>
          <a:stretch/>
        </p:blipFill>
        <p:spPr>
          <a:xfrm>
            <a:off x="0" y="608040"/>
            <a:ext cx="4564080" cy="6249960"/>
          </a:xfrm>
          <a:prstGeom prst="rect">
            <a:avLst/>
          </a:prstGeom>
          <a:ln w="0">
            <a:noFill/>
          </a:ln>
        </p:spPr>
      </p:pic>
      <p:sp>
        <p:nvSpPr>
          <p:cNvPr id="53" name="Straight Connector 9"/>
          <p:cNvSpPr/>
          <p:nvPr/>
        </p:nvSpPr>
        <p:spPr>
          <a:xfrm flipH="1">
            <a:off x="4564080" y="595440"/>
            <a:ext cx="1440" cy="627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How did state constitutions lay the groundwork for the U.S. Constitution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Idea that government should be based on an established set of principles lik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opular sovereignt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imited gover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eaknesses of the Articles of Confederation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No power to tax or control tra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No executive to enforce law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No court syste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Fear of a strong central govern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ree major challeng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Representation – big states vs. little st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esolved by the Great Compromise which created a bicameral (two house) legisl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lave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esolved by counting slaves as 3/5 of a person for representation and tax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Electing a Presid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esolved by setting up the Electoral Colle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Electoral Colleg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ere are 48 States that have a winner-takes-all rule for the Electoral College. In these States, whichever candidate receives a majority of the vote, or a plurality of the popular vote (less than 50 percent but more than any other candidate) takes all of the State's electoral vot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Electoral Colleg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4 Times (1824,1876,1888,2000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e winner of the Presidential Election did not win the Popular Vote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John Q. Adam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utherford Hay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Benjamin Harris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orge Bush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entury Schoolbook"/>
                <a:hlinkClick r:id="rId1"/>
              </a:rPr>
              <a:t>2000 Election Detail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Partner UP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ead Sections 3.5 and 3.6 an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List three beliefs of the Federali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List three beliefs of the Anti-Federali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Federali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avored strong central gover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Believed separation of powers kept government from becoming too stro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Believed in federalism (power divided between central and regional government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Anti-Federali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eared strong gover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Believed states are better able to represent peop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eared the Constitution lacked a bill of rights to protect citize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Look up due process.  What does it mean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ead Sections 4.2 and 4.3 and explain the purpose of each of the main parts of the Constitu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Preamb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Artic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Amendme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Preamble – purpose of the govern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Articles – define the powers of the three branches of governmen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Amendments – list formal changes to the Constitu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Enumerated powers are those powers specifically listed in the Constitu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mplied powers are those powers that come from the ‘elastic clause’ which allows Congress to make all laws necessary for carrying out its duti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6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C170-820E-4A00-8676-02F6B3840615}" type="slidenum">
              <a:rPr b="0" lang="en-US" sz="9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04920" y="88920"/>
            <a:ext cx="746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857840" y="833400"/>
            <a:ext cx="415296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ad Section 3.1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n respond to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862520" y="1654200"/>
            <a:ext cx="402264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at historic events did the two bicentennial celebrations in the United States mark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f what did the bicentennial events remind Americans? Why were these events so powerful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at ideas do you think gave bir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the world’s first modern democratic nation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 MORE KINGS!!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" name="Picture 8" descr="GOV_SE_CH3_Page_02.jpg"/>
          <p:cNvPicPr/>
          <p:nvPr/>
        </p:nvPicPr>
        <p:blipFill>
          <a:blip r:embed="rId1"/>
          <a:srcRect l="0" t="0" r="3387" b="0"/>
          <a:stretch/>
        </p:blipFill>
        <p:spPr>
          <a:xfrm>
            <a:off x="0" y="608040"/>
            <a:ext cx="4564080" cy="624996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9"/>
          <p:cNvSpPr/>
          <p:nvPr/>
        </p:nvSpPr>
        <p:spPr>
          <a:xfrm flipH="1">
            <a:off x="4564080" y="595440"/>
            <a:ext cx="1440" cy="627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hy does each branch have different powers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o no single branch becomes too powerful and each branch is both accountable and responsible for the other branches (checks and balance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Legislative – make laws, approve treat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Executive – enforces laws, negotiates treat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Judicial – interprets laws and determines constitutionalit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Amendments (changes to the Constitution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Proposed by Congress with a 2/3 vote in both hous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¾ of the state legislatures ratify (approve) the amend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4680" y="1387440"/>
            <a:ext cx="6199200" cy="3903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29520" y="5504040"/>
            <a:ext cx="73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Judicial Review means that the Supreme Court h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e responsibility to determine whether laws ar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onstitutional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Unit 1 Assessment Topic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tion-st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gitimac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ublic goo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narch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ctatorshi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rket Econom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mand Econom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ederal 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ular sovereign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rbury v. Madis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tur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itutional issues and resolu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eat Compromi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ticles of Confede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ue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urpose of the three parts of the Constit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Early Root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7080" y="1430280"/>
            <a:ext cx="7675560" cy="486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47920" y="2468520"/>
            <a:ext cx="565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"/>
          <p:cNvSpPr/>
          <p:nvPr/>
        </p:nvSpPr>
        <p:spPr>
          <a:xfrm>
            <a:off x="7589880" y="3094200"/>
            <a:ext cx="44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"/>
          <p:cNvSpPr/>
          <p:nvPr/>
        </p:nvSpPr>
        <p:spPr>
          <a:xfrm>
            <a:off x="1401840" y="3413160"/>
            <a:ext cx="43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"/>
          <p:cNvSpPr/>
          <p:nvPr/>
        </p:nvSpPr>
        <p:spPr>
          <a:xfrm>
            <a:off x="2498760" y="4618080"/>
            <a:ext cx="347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"/>
          <p:cNvSpPr/>
          <p:nvPr/>
        </p:nvSpPr>
        <p:spPr>
          <a:xfrm>
            <a:off x="3489480" y="5851440"/>
            <a:ext cx="416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Early Root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3720" y="1554120"/>
            <a:ext cx="78692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27360" y="2468520"/>
            <a:ext cx="3551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"/>
          <p:cNvSpPr/>
          <p:nvPr/>
        </p:nvSpPr>
        <p:spPr>
          <a:xfrm>
            <a:off x="1844640" y="271296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419720" y="4114800"/>
            <a:ext cx="23158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"/>
          <p:cNvSpPr/>
          <p:nvPr/>
        </p:nvSpPr>
        <p:spPr>
          <a:xfrm>
            <a:off x="6384960" y="4983120"/>
            <a:ext cx="134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"/>
          <p:cNvSpPr/>
          <p:nvPr/>
        </p:nvSpPr>
        <p:spPr>
          <a:xfrm>
            <a:off x="1203480" y="5227560"/>
            <a:ext cx="187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Early Root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11040" y="1554120"/>
            <a:ext cx="8078760" cy="2913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04920" y="4516560"/>
            <a:ext cx="7083360" cy="506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147080" y="23018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89080" y="2575080"/>
            <a:ext cx="685800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"/>
          <p:cNvSpPr/>
          <p:nvPr/>
        </p:nvSpPr>
        <p:spPr>
          <a:xfrm>
            <a:off x="1235160" y="2849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"/>
          <p:cNvSpPr/>
          <p:nvPr/>
        </p:nvSpPr>
        <p:spPr>
          <a:xfrm>
            <a:off x="6049800" y="38703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279440" y="4160880"/>
            <a:ext cx="652320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"/>
          <p:cNvSpPr/>
          <p:nvPr/>
        </p:nvSpPr>
        <p:spPr>
          <a:xfrm>
            <a:off x="1203480" y="4435560"/>
            <a:ext cx="405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Early Root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17600" y="1535040"/>
            <a:ext cx="8261280" cy="435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5715000" y="2377800"/>
            <a:ext cx="230184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914400" y="2759040"/>
            <a:ext cx="722304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"/>
          <p:cNvSpPr/>
          <p:nvPr/>
        </p:nvSpPr>
        <p:spPr>
          <a:xfrm>
            <a:off x="853920" y="3108240"/>
            <a:ext cx="58816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057400" y="5288040"/>
            <a:ext cx="544032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990720" y="5654520"/>
            <a:ext cx="97452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30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Key Event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ayflower Compact – first written framework for self-government in the colon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MPACT:  Colonists learn to create rules and governments for themselv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Virginia House of Burgesses – first elected assembly in the colon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MPACT:  Elected assemblies spread through the coloni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3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Key Event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rench and Indian War – After the war Britain imposed taxes and restrictions on the colon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MPACT:  Colonists feel Britain is restricting their righ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amp Act – Britain taxes colonists on paper good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MPACT:  Colonists feel that taxation without representation is unju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4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Key Event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exington and Concord – first armed conflict between Britain and Colonis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MPACT:  Start of American Revolu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claration of Independence – formal break with Britai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MPACT:  Creates vision for a government responsible to the peop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6:52:55Z</dcterms:created>
  <dc:creator>TCI  </dc:creator>
  <dc:description/>
  <dc:language>en-US</dc:language>
  <cp:lastModifiedBy>School District U46</cp:lastModifiedBy>
  <cp:lastPrinted>2007-08-24T20:48:01Z</cp:lastPrinted>
  <dcterms:modified xsi:type="dcterms:W3CDTF">2011-09-14T13:10:28Z</dcterms:modified>
  <cp:revision>401</cp:revision>
  <dc:subject/>
  <dc:title>PowerPoint Presentation</dc:title>
</cp:coreProperties>
</file>